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D29-3683-45E8-BF9C-1F9EDA85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3FE-33DB-48B7-8C71-24299FEF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7B-700C-4DBA-B35A-320B6BAD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2CC-9FE0-4137-A2B0-3BA78E93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4F1-E1C4-465F-8996-086A62D1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F67-AC28-4A2B-8EB1-91B8A937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9B6-5CA8-4628-A552-528856F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214-535D-4592-8E8C-D10EC5A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2FA-B0E8-4DA2-AA96-3ED8EC7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AE8-9E6E-45E7-85A8-0F5D4AFE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16A-17A2-4D15-85D0-1046679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8BE-0423-4F21-BCA2-FA9C17F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5C26-D255-4BBF-8FA9-F8F68607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mériser" descr=""/>
          <p:cNvPicPr/>
          <p:nvPr/>
        </p:nvPicPr>
        <p:blipFill>
          <a:blip r:embed="rId1"/>
          <a:stretch/>
        </p:blipFill>
        <p:spPr>
          <a:xfrm>
            <a:off x="127080" y="1671480"/>
            <a:ext cx="6603840" cy="656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2040" y="152280"/>
            <a:ext cx="303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COULEUR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ercle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83680" y="53830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1560" y="408780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ouge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6080" y="40878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leu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3440" y="324972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61200">
            <a:off x="1128960" y="530748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013800">
            <a:off x="3485520" y="530496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61720" y="72388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34290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2120" y="3429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768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133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5360" y="4800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3760" y="2514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280" y="48006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5600" y="259092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232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508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3200" y="8381880"/>
            <a:ext cx="698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 couleur complémentaire est la couleur primaire qui n ’a pas été utilisée pour le mél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mple: la couleur complémentaire du orange est le cy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tons clairs sont obtenus avec plus de blanc. Les tons foncés sont obtenus avec plus de no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chaudes sont celles qui sont dans les rouges/jau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froides sont celles qui sont dans les verts/b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19:04Z</dcterms:created>
  <dc:creator>Marc SCHMIDT</dc:creator>
  <dc:description/>
  <dc:language>en-US</dc:language>
  <cp:lastModifiedBy>Marc SCHMIDT</cp:lastModifiedBy>
  <cp:lastPrinted>2006-03-14T17:40:27Z</cp:lastPrinted>
  <dcterms:modified xsi:type="dcterms:W3CDTF">2006-03-14T17:55:14Z</dcterms:modified>
  <cp:revision>3</cp:revision>
  <dc:subject/>
  <dc:title>Aucun titre de diapositive</dc:title>
</cp:coreProperties>
</file>