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66C2-65FF-4E80-A6FC-F3BD09087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F60E-E31F-482B-9BE2-096CB09D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DF1D-0DE5-40C2-BA63-5297DDA2B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C0EB-7855-433A-BAFB-CB12660A6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A1F2-68CE-459F-B778-1D62C8A6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0F9F-D3C2-4C9B-8395-9150E4FF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C618-3FB2-4955-806B-49FFACCB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6ECF-32B5-41DB-AFEA-46F527BB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6FCA-0327-4E5D-B21A-92882853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94CD-5352-4DA3-B72B-4428A1FF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0577-EDDE-4D91-947D-5C809995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F99E-A0D0-432E-9F76-6496CD3C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9AB4-FE77-4D8C-8C51-52B642926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umériser2" descr=""/>
          <p:cNvPicPr/>
          <p:nvPr/>
        </p:nvPicPr>
        <p:blipFill>
          <a:blip r:embed="rId1"/>
          <a:stretch/>
        </p:blipFill>
        <p:spPr>
          <a:xfrm>
            <a:off x="127080" y="1671480"/>
            <a:ext cx="6603840" cy="6562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32040" y="152280"/>
            <a:ext cx="3035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S COULEURS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 cercle chrom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83680" y="5383080"/>
            <a:ext cx="89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Ja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rim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51560" y="4087800"/>
            <a:ext cx="144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age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ouge prim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66080" y="408780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y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bleu prim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23440" y="3249720"/>
            <a:ext cx="223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50%, 5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ouleur complément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3661200">
            <a:off x="1128960" y="5307480"/>
            <a:ext cx="223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0%, 5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uleur complément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8013800">
            <a:off x="3485520" y="5304960"/>
            <a:ext cx="223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50%, 5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ouleur complément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61720" y="7238880"/>
            <a:ext cx="89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Ja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rim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7960" y="342900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age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42120" y="342900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y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76880" y="60199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50%, 5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2600" y="60199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0%, 5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14560" y="21337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50%, 5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25360" y="480060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+ de cy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53760" y="251460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+ de cy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6280" y="4800600"/>
            <a:ext cx="133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+ de mage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35600" y="2590920"/>
            <a:ext cx="133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+ de mage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52320" y="708660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+ de ja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85080" y="708660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+ de ja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43200" y="8381880"/>
            <a:ext cx="6980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a couleur complémentaire est la couleur primaire qui n ’a pas été utilisée pour le mélan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emple: la couleur complémentaire du orange est le cy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s tons clairs sont obtenus avec plus de blanc. Les tons foncés sont obtenus avec plus de no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s couleurs chaudes sont celles qui sont dans les rouges/jau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s couleurs froides sont celles qui sont dans les verts/b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7:19:04Z</dcterms:created>
  <dc:creator>Marc SCHMIDT</dc:creator>
  <dc:description/>
  <dc:language>en-US</dc:language>
  <cp:lastModifiedBy>Marc SCHMIDT</cp:lastModifiedBy>
  <cp:lastPrinted>2006-03-14T17:39:56Z</cp:lastPrinted>
  <dcterms:modified xsi:type="dcterms:W3CDTF">2006-03-14T17:55:11Z</dcterms:modified>
  <cp:revision>4</cp:revision>
  <dc:subject/>
  <dc:title>Aucun titre de diapositive</dc:title>
</cp:coreProperties>
</file>